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8225-3AB2-4A61-8F01-1995E6565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SS is used to exchange information between wikis, portals, and websi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Mashups are driven by service workflows which include OGC data access and analysis servi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Metadata is aggregated in dataspaces and translated to common metadata formats for catalo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8743-78E6-4E06-ADFD-BD15B4B9A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B6CB-D2AA-49C6-A9A7-185CD68A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F279-D096-4811-AB16-4CBA68854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B840-CD9C-44B3-B48E-914A078E6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DB83-1D44-423C-BA4D-87619EEC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3C00-6247-4C0C-A750-89B4D0F4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418D-542E-41AA-AD7F-0FD42CE7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34CB-AA22-492F-B604-141AB6FB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E831-D626-4419-A921-E15FDAED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A07A-E5DB-4753-99B9-AAF0D58B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0BB0-2D35-4EE1-9F84-B716FDDE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5E3A-F1BD-4C59-B892-163850C7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AC4E-AFBB-4AF1-9D7C-A93C83B53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143000"/>
            <a:ext cx="8381880" cy="39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s-based access to distributed emission inventory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s for data processing and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ns for sharing data &amp; too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e to community-based, collaborative environments (cyberinfrastructu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roach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OGC services for emissions related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DataFed to register datasets, provide OGC interfaces for datasets, develop analysis services, and create service workf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emission analysis tools to compare emissions invent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“mashup” applications for analysis and visu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information exchange connections within service oriented frameworks and with Web 2.0 techn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5001" t="11845" r="52605" b="79591"/>
          <a:stretch/>
        </p:blipFill>
        <p:spPr>
          <a:xfrm>
            <a:off x="380880" y="152280"/>
            <a:ext cx="8458200" cy="990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0" t="10273" r="21415" b="4796"/>
          <a:stretch/>
        </p:blipFill>
        <p:spPr>
          <a:xfrm>
            <a:off x="5943600" y="4495680"/>
            <a:ext cx="2590920" cy="1825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666880" y="4952880"/>
            <a:ext cx="3581640" cy="1555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148520" y="45324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ash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34640" y="59436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28600" y="4648320"/>
            <a:ext cx="2513160" cy="1792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55920" y="495288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Analy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2499" t="13129" r="4023" b="4279"/>
          <a:stretch/>
        </p:blipFill>
        <p:spPr>
          <a:xfrm>
            <a:off x="7543800" y="5715000"/>
            <a:ext cx="1447920" cy="94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581280" y="6019920"/>
            <a:ext cx="53352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6019920"/>
            <a:ext cx="53316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nent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76720" y="1143000"/>
            <a:ext cx="2895480" cy="167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1" name=""/>
          <p:cNvSpPr/>
          <p:nvPr/>
        </p:nvSpPr>
        <p:spPr>
          <a:xfrm flipH="1">
            <a:off x="5943600" y="190512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20725800">
            <a:off x="6309360" y="182052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990720"/>
            <a:ext cx="137160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ISGEI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90512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396600">
            <a:off x="2364120" y="17524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3962160" y="281916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rcRect l="0" t="10973" r="1540" b="0"/>
          <a:stretch/>
        </p:blipFill>
        <p:spPr>
          <a:xfrm>
            <a:off x="7086600" y="1295280"/>
            <a:ext cx="1600200" cy="105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7543800" y="1143000"/>
            <a:ext cx="1371600" cy="270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og B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rcRect l="0" t="13737" r="20815" b="3034"/>
          <a:stretch/>
        </p:blipFill>
        <p:spPr>
          <a:xfrm>
            <a:off x="3886200" y="3505320"/>
            <a:ext cx="1927080" cy="149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4724280" y="3352680"/>
            <a:ext cx="14479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ISGEI Mash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14320" y="2987640"/>
            <a:ext cx="90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v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rcRect l="1604" t="12561" r="44942" b="37551"/>
          <a:stretch/>
        </p:blipFill>
        <p:spPr>
          <a:xfrm>
            <a:off x="228600" y="1371600"/>
            <a:ext cx="1906560" cy="134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15238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590920" y="259092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9554600">
            <a:off x="2593440" y="274284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1388880" y="2764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0666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l.icio.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Fed analy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6019920"/>
            <a:ext cx="53316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6"/>
          <a:srcRect l="0" t="20444" r="41245" b="4009"/>
          <a:stretch/>
        </p:blipFill>
        <p:spPr>
          <a:xfrm>
            <a:off x="6629400" y="2971800"/>
            <a:ext cx="1676520" cy="124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7238880" y="2743200"/>
            <a:ext cx="167652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IP DataSp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943600" y="373392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320" y="4572000"/>
            <a:ext cx="850680" cy="1219320"/>
          </a:xfrm>
          <a:custGeom>
            <a:avLst/>
            <a:gdLst>
              <a:gd name="textAreaLeft" fmla="*/ 41400 w 850680"/>
              <a:gd name="textAreaRight" fmla="*/ 809280 w 850680"/>
              <a:gd name="textAreaTop" fmla="*/ 41400 h 1219320"/>
              <a:gd name="textAreaBottom" fmla="*/ 1177920 h 1219320"/>
            </a:gdLst>
            <a:ahLst/>
            <a:rect l="textAreaLeft" t="textAreaTop" r="textAreaRight" b="textAreaBottom"/>
            <a:pathLst>
              <a:path w="21600" h="30956">
                <a:moveTo>
                  <a:pt x="3600" y="0"/>
                </a:moveTo>
                <a:arcTo wR="3600" hR="3600" stAng="16200000" swAng="-5400000"/>
                <a:lnTo>
                  <a:pt x="0" y="27356"/>
                </a:lnTo>
                <a:arcTo wR="3600" hR="3600" stAng="10800000" swAng="-5400000"/>
                <a:lnTo>
                  <a:pt x="18000" y="309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8200" y="4572000"/>
            <a:ext cx="897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5257800"/>
            <a:ext cx="22860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2440" y="5105520"/>
            <a:ext cx="228600" cy="1522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5240" y="5486400"/>
            <a:ext cx="228600" cy="152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9800" y="5562720"/>
            <a:ext cx="2286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2440" y="5334120"/>
            <a:ext cx="228600" cy="152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6400800"/>
            <a:ext cx="137160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ISGEI W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6400800"/>
            <a:ext cx="129564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Fed W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114800" y="601956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153280" y="42670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86600" y="424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7962480" y="4685760"/>
            <a:ext cx="68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G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6910200" y="436680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048120" y="4419720"/>
            <a:ext cx="7617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048120" y="457200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6400800"/>
            <a:ext cx="137160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iovanni W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295280" y="56386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438280" y="5638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047760" y="56386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5105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9913400">
            <a:off x="2971080" y="4114440"/>
            <a:ext cx="82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iv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9913400">
            <a:off x="3102480" y="480024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5257440" y="480024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219320" y="56386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5638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5638680"/>
            <a:ext cx="7617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7"/>
          <a:srcRect l="599" t="24066" r="60196" b="30837"/>
          <a:stretch/>
        </p:blipFill>
        <p:spPr>
          <a:xfrm>
            <a:off x="4648320" y="5334120"/>
            <a:ext cx="1523880" cy="101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5029200" y="6248520"/>
            <a:ext cx="91440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F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ta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8"/>
          <a:srcRect l="2830" t="21214" r="2830" b="6756"/>
          <a:stretch/>
        </p:blipFill>
        <p:spPr>
          <a:xfrm>
            <a:off x="6553080" y="4773600"/>
            <a:ext cx="1371600" cy="8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6477120" y="5535720"/>
            <a:ext cx="1447560" cy="407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ster Direc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94720" y="6383160"/>
            <a:ext cx="1295280" cy="38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ospat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e S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rcRect l="12300" t="21351" r="41546" b="50599"/>
          <a:stretch/>
        </p:blipFill>
        <p:spPr>
          <a:xfrm>
            <a:off x="1295280" y="4572000"/>
            <a:ext cx="1752840" cy="102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1143000" y="4191120"/>
            <a:ext cx="14479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Fed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flow Eng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0"/>
          <a:srcRect l="12524" t="25233" r="12524" b="17596"/>
          <a:stretch/>
        </p:blipFill>
        <p:spPr>
          <a:xfrm>
            <a:off x="990720" y="3124080"/>
            <a:ext cx="1600200" cy="92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304920" y="2971800"/>
            <a:ext cx="106668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22:08:08Z</dcterms:created>
  <dc:creator>sf</dc:creator>
  <dc:description/>
  <dc:language>en-US</dc:language>
  <cp:lastModifiedBy>sf</cp:lastModifiedBy>
  <dcterms:modified xsi:type="dcterms:W3CDTF">2008-02-12T10:15:13Z</dcterms:modified>
  <cp:revision>20</cp:revision>
  <dc:subject/>
  <dc:title>Slide 1</dc:title>
</cp:coreProperties>
</file>